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6B57-92AD-45AC-B583-A1FB69FFA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AB1E-7572-42FB-879C-C263D422B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2DB4-C9BD-4E67-B842-00E544327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4BE0-8147-4DD1-A6F8-4E1D8DE2E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5CB5-A157-4DAF-A5C7-4CA8E9103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D5B8-62B7-44E1-ADA2-46CE36618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7FB5-5356-4A08-B328-22EA0473D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0DD5-F74C-47DB-BD95-30F5FF228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F2E1-70CE-4E6B-BFBC-2EE50A325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BADC-9FCF-4143-9B10-5901FDF3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56E3-C880-4456-A420-00BD7161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F2F-6E15-43D2-84E6-18CD4D83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2A4-ADA9-4DB4-B590-CFB21061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A8BB-3951-4E46-94A8-8BEC491A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EF0-9A85-475A-9724-369865FA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9C6B-F0C3-4102-9ACA-A7BA36BD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50CD-3653-403A-B8A4-3654BDF7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721-48E8-4640-BBD3-F0C45922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027E-73CC-4205-8E30-6998DF56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B7AF-711A-426D-B863-69C1DC87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55BF-FA32-468F-B3F6-E313F3E8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F610-6E7D-49A9-9D3E-9B492275F2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b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Demographic Comparison Tunisia and Zimbabwe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l data from 2005 Population Data sheet unless otherwise stated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www.prb.org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80880" y="54100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: Apply Level 4 analysis to data - ID Level 2 Patterns Attempt to answer Level 3 why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Natural Increase / Fertility Rate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5" descr="NI"/>
          <p:cNvPicPr/>
          <p:nvPr/>
        </p:nvPicPr>
        <p:blipFill>
          <a:blip r:embed="rId2"/>
          <a:stretch/>
        </p:blipFill>
        <p:spPr>
          <a:xfrm>
            <a:off x="609480" y="1335240"/>
            <a:ext cx="7961400" cy="5446440"/>
          </a:xfrm>
          <a:prstGeom prst="rect">
            <a:avLst/>
          </a:prstGeom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Birth rate and Death Rate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5" descr="drbr"/>
          <p:cNvPicPr/>
          <p:nvPr/>
        </p:nvPicPr>
        <p:blipFill>
          <a:blip r:embed="rId2"/>
          <a:stretch/>
        </p:blipFill>
        <p:spPr>
          <a:xfrm>
            <a:off x="685800" y="1386000"/>
            <a:ext cx="8001000" cy="5472000"/>
          </a:xfrm>
          <a:prstGeom prst="rect">
            <a:avLst/>
          </a:prstGeom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2005 Same Natural Increase Different Pyramid - Why?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Zimbabwe   /   Tunisia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9" descr="Tunisia1995"/>
          <p:cNvPicPr/>
          <p:nvPr/>
        </p:nvPicPr>
        <p:blipFill>
          <a:blip r:embed="rId2"/>
          <a:stretch/>
        </p:blipFill>
        <p:spPr>
          <a:xfrm>
            <a:off x="4648320" y="2438280"/>
            <a:ext cx="3809880" cy="1908360"/>
          </a:xfrm>
          <a:prstGeom prst="rect">
            <a:avLst/>
          </a:prstGeom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  <p:pic>
        <p:nvPicPr>
          <p:cNvPr id="57" name="Picture 11" descr="Tunisia2005"/>
          <p:cNvPicPr/>
          <p:nvPr/>
        </p:nvPicPr>
        <p:blipFill>
          <a:blip r:embed="rId3"/>
          <a:stretch/>
        </p:blipFill>
        <p:spPr>
          <a:xfrm>
            <a:off x="4648320" y="4572000"/>
            <a:ext cx="3809880" cy="1908000"/>
          </a:xfrm>
          <a:prstGeom prst="rect">
            <a:avLst/>
          </a:prstGeom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  <p:pic>
        <p:nvPicPr>
          <p:cNvPr id="58" name="Picture 13" descr="zimb1995pyramid"/>
          <p:cNvPicPr/>
          <p:nvPr/>
        </p:nvPicPr>
        <p:blipFill>
          <a:blip r:embed="rId4"/>
          <a:stretch/>
        </p:blipFill>
        <p:spPr>
          <a:xfrm>
            <a:off x="685800" y="2438280"/>
            <a:ext cx="3809880" cy="1908360"/>
          </a:xfrm>
          <a:prstGeom prst="rect">
            <a:avLst/>
          </a:prstGeom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  <p:pic>
        <p:nvPicPr>
          <p:cNvPr id="59" name="Picture 15" descr="zim2005pyramid"/>
          <p:cNvPicPr/>
          <p:nvPr/>
        </p:nvPicPr>
        <p:blipFill>
          <a:blip r:embed="rId5"/>
          <a:stretch/>
        </p:blipFill>
        <p:spPr>
          <a:xfrm>
            <a:off x="685800" y="4572000"/>
            <a:ext cx="3809880" cy="1908000"/>
          </a:xfrm>
          <a:prstGeom prst="rect">
            <a:avLst/>
          </a:prstGeom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Picture 8" descr="tunisia2015"/>
          <p:cNvPicPr/>
          <p:nvPr/>
        </p:nvPicPr>
        <p:blipFill>
          <a:blip r:embed="rId2"/>
          <a:stretch/>
        </p:blipFill>
        <p:spPr>
          <a:xfrm>
            <a:off x="4648320" y="1944720"/>
            <a:ext cx="4114800" cy="2178000"/>
          </a:xfrm>
          <a:prstGeom prst="rect">
            <a:avLst/>
          </a:prstGeom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  <p:pic>
        <p:nvPicPr>
          <p:cNvPr id="62" name="Picture 10" descr="zimb2015pyramid"/>
          <p:cNvPicPr/>
          <p:nvPr/>
        </p:nvPicPr>
        <p:blipFill>
          <a:blip r:embed="rId3"/>
          <a:stretch/>
        </p:blipFill>
        <p:spPr>
          <a:xfrm>
            <a:off x="152280" y="1981080"/>
            <a:ext cx="4267440" cy="2136960"/>
          </a:xfrm>
          <a:prstGeom prst="rect">
            <a:avLst/>
          </a:prstGeom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  <p:pic>
        <p:nvPicPr>
          <p:cNvPr id="63" name="Picture 15" descr="datachart"/>
          <p:cNvPicPr/>
          <p:nvPr/>
        </p:nvPicPr>
        <p:blipFill>
          <a:blip r:embed="rId4"/>
          <a:stretch/>
        </p:blipFill>
        <p:spPr>
          <a:xfrm>
            <a:off x="609480" y="4343400"/>
            <a:ext cx="7696440" cy="2165400"/>
          </a:xfrm>
          <a:prstGeom prst="rect">
            <a:avLst/>
          </a:prstGeom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Things to think abou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nisia seems to fit demographic transition model based on BR, DR, urban %, income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imbabwe data doesn’t fit typical mold for current LDC.  What isn’t typical and wh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Adult rates of AIDS in Africa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5" descr="africaaidsmap"/>
          <p:cNvPicPr/>
          <p:nvPr/>
        </p:nvPicPr>
        <p:blipFill>
          <a:blip r:embed="rId2"/>
          <a:stretch/>
        </p:blipFill>
        <p:spPr>
          <a:xfrm>
            <a:off x="914400" y="2057400"/>
            <a:ext cx="4275000" cy="4800600"/>
          </a:xfrm>
          <a:prstGeom prst="rect">
            <a:avLst/>
          </a:prstGeom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  <p:pic>
        <p:nvPicPr>
          <p:cNvPr id="68" name="Picture 6" descr="key"/>
          <p:cNvPicPr/>
          <p:nvPr/>
        </p:nvPicPr>
        <p:blipFill>
          <a:blip r:embed="rId3"/>
          <a:stretch/>
        </p:blipFill>
        <p:spPr>
          <a:xfrm>
            <a:off x="5638680" y="3048120"/>
            <a:ext cx="2205000" cy="2097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5638680" y="5334120"/>
            <a:ext cx="243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http://www.prcdc.org/summaries/aidsinafrica/aidsinafrica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Possible Free Response Question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the data, maps and population pyramids identify and explain two demographic (population) problems that Zimbabwe is currently facing.  Support your explanation with specific examples and details (6 p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04:42:15Z</dcterms:created>
  <dc:creator>Social Studies</dc:creator>
  <dc:description/>
  <dc:language>en-US</dc:language>
  <cp:lastModifiedBy>Unity Rain</cp:lastModifiedBy>
  <dcterms:modified xsi:type="dcterms:W3CDTF">2011-04-24T22:12:58Z</dcterms:modified>
  <cp:revision>11</cp:revision>
  <dc:subject/>
  <dc:title>PowerPoint Presentation</dc:title>
</cp:coreProperties>
</file>